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909-2A09-429B-8B76-AE76252D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4C55-B0ED-400F-A925-DBB9BE7A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1D20-A09F-446D-BFFB-14AC7F6A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ECD6-4FC0-4745-B0A5-98271F70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2109-9052-46C4-ACAC-3075B67D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9638-6EC9-4A40-98CB-E7E784D6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84EC-D7D3-470B-9211-A711AE67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6F40-C261-4EF0-AEDB-26F1402B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A263-728A-4330-945E-D4A5D260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31A2-C5FE-43FC-857E-07D8CDE5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DEDB-7B37-4EBE-8C8C-83E1FC5D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452A-9F9B-4F89-BB2A-C5680EC8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663300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80A4-154F-42FA-BB47-A2832C5C4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663300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Monotype Corsiva"/>
              </a:rPr>
              <a:t>This is me uniqu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Monotype Corsiva"/>
              </a:rPr>
              <a:t>By: Ashley Nix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" dur="1" fill="hold"/>
                                  <p:tgtEl>
                                    <p:spTgt spid="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663300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ffff"/>
                </a:solidFill>
                <a:latin typeface="Monotype Corsiva"/>
              </a:rPr>
              <a:t>Past</a:t>
            </a: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Monotype Corsiva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My place of birth is in Galveston, Tex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Monotype Corsiva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I have a lovely family very big and a lot of k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Monotype Corsiva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I attend Ozen High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Monotype Corsiva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I don’t have a job yet , but im still waiting on jack-in-the-box to call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Monotype Corsiva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My friends are more like sisters to me Latriace Franklin, Ashley Celestine, and my sister Angel Nix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663300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Monotype Corsiva"/>
              </a:rPr>
              <a:t>Present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Kozuka Gothic Pro E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I am very creative, intelligent, independent, caring, leader, short, and very pret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Kozuka Gothic Pro E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My favorite foods is Toni's deep-dish pizzas,! crawfish, my moms pork chop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Kozuka Gothic Pro E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My favorite place is my godmother’s house and the ma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Kozuka Gothic Pro E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My favorite music is beyonce’s music and my favorite song is BeBe and CeCe Winans - Addictive lo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Kozuka Gothic Pro E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avorite sports is basketba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Kozuka Gothic Pro E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elebrity is Beyonce’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663300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Monotype Corsiva"/>
              </a:rPr>
              <a:t>Future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My future goal is to become a cosmetologist and do nails and hai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I want to own my beauty shop in five year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10 years from now I want to do some celebrity’s hai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My family goals is to get alone because other people is not going to be there we are! Career goals is too help with my shop put a little of each and everyone in i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663300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Monotype Corsiva"/>
              </a:rPr>
              <a:t>More 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I love to sing, dance, do hair, and listen to BeBe and CeCe Winans – Addictive Lo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In my spare time I like to go to my godmother’s hou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My favorite class is multimedia Mrs.. Web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0000"/>
              </a:lnSpc>
              <a:spcBef>
                <a:spcPts val="2200"/>
              </a:spcBef>
              <a:buClr>
                <a:srgbClr val="ffffff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Monotype Corsiva"/>
              </a:rPr>
              <a:t>The en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5:39:58Z</dcterms:created>
  <dc:creator>768984</dc:creator>
  <dc:description/>
  <dc:language>en-US</dc:language>
  <cp:lastModifiedBy>768984</cp:lastModifiedBy>
  <dcterms:modified xsi:type="dcterms:W3CDTF">2009-04-09T16:11:41Z</dcterms:modified>
  <cp:revision>3</cp:revision>
  <dc:subject/>
  <dc:title>This is me unique</dc:title>
</cp:coreProperties>
</file>